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move the slide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8344-740D-462D-AB3C-A5C6FA7A9B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1700-6F35-48BD-95AB-7B3EFE5F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D4A2-8F72-462B-A979-0DFE5F7B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ED59-C584-469B-B923-A53D26AD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116A-5D8D-4535-BD34-6779FB5D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1BC8-AE8A-459C-8B1F-5D563AE3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4935-C3A6-44F9-AABA-1AF05F05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6021-37DA-4649-8331-885EBFB3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DAA6-CD8D-4E8D-AB9E-B14FD6B1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E409-D178-4E4A-B23F-31E4918D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43C6-D95A-41E8-A96E-FEE562B6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FFB8-087C-4D84-8439-6C52574C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AEE9-A670-403A-91D7-F8838595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12E9-8F4D-4AAF-A21F-648A4273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26A1-5123-4E69-9794-AC87E8BC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AE2A-9AAB-463F-9195-A9925543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6C4A-F3AA-4425-AE7B-A0622B51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AD37-740A-4808-B901-47C9DFA3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94D3-413A-49B2-93C6-A7796646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D761-264B-466D-97F7-4109B91C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D7E4-446D-4AF8-A0A1-C2A52E7A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6AA2-E0FA-4B08-BF38-A3067E74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4998-6278-4FDC-9190-0CFA1585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66A1-9251-4DBC-9A7D-2C5016AE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EC38-67D1-43BE-8417-D504A3F3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C2AE-BA10-402D-8F90-FEE41C1402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0959-D938-4BA9-9AA5-5F89293F74C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ffffcc"/>
                </a:solidFill>
                <a:latin typeface="Verdana"/>
              </a:rPr>
              <a:t>Animal Adaptations</a:t>
            </a:r>
            <a:endParaRPr b="1" lang="en-US" sz="5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128" name="Picture 4" descr="bat"/>
          <p:cNvPicPr/>
          <p:nvPr/>
        </p:nvPicPr>
        <p:blipFill>
          <a:blip r:embed="rId1"/>
          <a:stretch/>
        </p:blipFill>
        <p:spPr>
          <a:xfrm>
            <a:off x="4284720" y="3789360"/>
            <a:ext cx="2595600" cy="21607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Types of Adapt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ything that helps an organism survive in its environment is an  adaptation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t also refers to the ability of living things to adjust to different conditions within their environment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Protective colo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g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Hibern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Structural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involves some part of an animal's bod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eeth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ody coverings  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ovement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4" descr="GreatWhite_"/>
          <p:cNvPicPr/>
          <p:nvPr/>
        </p:nvPicPr>
        <p:blipFill>
          <a:blip r:embed="rId1"/>
          <a:stretch/>
        </p:blipFill>
        <p:spPr>
          <a:xfrm>
            <a:off x="4572000" y="3213000"/>
            <a:ext cx="3887640" cy="29163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Protective Colo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oloration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d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rotective resemblance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allow an animal to blend into its environment.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other word for this might be camouflage.  Their camouflage makes it hard for enemies to single out individuals. 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5" descr="Bears,  panda, white bears, brown bears"/>
          <p:cNvPicPr/>
          <p:nvPr/>
        </p:nvPicPr>
        <p:blipFill>
          <a:blip r:embed="rId1"/>
          <a:stretch/>
        </p:blipFill>
        <p:spPr>
          <a:xfrm>
            <a:off x="755640" y="1455840"/>
            <a:ext cx="3456000" cy="244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amorabbit"/>
          <p:cNvPicPr/>
          <p:nvPr/>
        </p:nvPicPr>
        <p:blipFill>
          <a:blip r:embed="rId2"/>
          <a:stretch/>
        </p:blipFill>
        <p:spPr>
          <a:xfrm>
            <a:off x="611280" y="4005360"/>
            <a:ext cx="3744720" cy="23605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micry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4956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allows one animal to look, sound, or act like another animal to fool predators into thinking it is poisonous or dangerous. 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5" name="Picture 15" descr="pauwoog"/>
          <p:cNvPicPr/>
          <p:nvPr/>
        </p:nvPicPr>
        <p:blipFill>
          <a:blip r:embed="rId1"/>
          <a:stretch/>
        </p:blipFill>
        <p:spPr>
          <a:xfrm>
            <a:off x="4643280" y="1308240"/>
            <a:ext cx="4032360" cy="2439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coral"/>
          <p:cNvPicPr/>
          <p:nvPr/>
        </p:nvPicPr>
        <p:blipFill>
          <a:blip r:embed="rId2"/>
          <a:stretch/>
        </p:blipFill>
        <p:spPr>
          <a:xfrm>
            <a:off x="2916360" y="3933720"/>
            <a:ext cx="3528720" cy="261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Red_milk_snake"/>
          <p:cNvPicPr/>
          <p:nvPr/>
        </p:nvPicPr>
        <p:blipFill>
          <a:blip r:embed="rId3"/>
          <a:stretch/>
        </p:blipFill>
        <p:spPr>
          <a:xfrm>
            <a:off x="6084720" y="3933720"/>
            <a:ext cx="3059280" cy="26164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Behaviour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92000" y="1557360"/>
            <a:ext cx="5327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include activities that help an animal survive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ehaviour adaptations can be learned or instinctiv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ocial behaviour 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haviour for protection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Picture 7" descr="opossum_"/>
          <p:cNvPicPr/>
          <p:nvPr/>
        </p:nvPicPr>
        <p:blipFill>
          <a:blip r:embed="rId1"/>
          <a:stretch/>
        </p:blipFill>
        <p:spPr>
          <a:xfrm>
            <a:off x="324000" y="148428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CanadaFam"/>
          <p:cNvPicPr/>
          <p:nvPr/>
        </p:nvPicPr>
        <p:blipFill>
          <a:blip r:embed="rId2"/>
          <a:stretch/>
        </p:blipFill>
        <p:spPr>
          <a:xfrm>
            <a:off x="324000" y="4005360"/>
            <a:ext cx="345600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g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24000" y="1341360"/>
            <a:ext cx="48956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imals migrate for different reason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climat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foo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liv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raise you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go back to the place they were bor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14126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is is when behavioral adaptation that involves an animal or group of animals moving from one region to another and then back again.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11" descr="NI006%20Serengeti%20Migration%20A3"/>
          <p:cNvPicPr/>
          <p:nvPr/>
        </p:nvPicPr>
        <p:blipFill>
          <a:blip r:embed="rId1"/>
          <a:stretch/>
        </p:blipFill>
        <p:spPr>
          <a:xfrm>
            <a:off x="250920" y="4005360"/>
            <a:ext cx="4048200" cy="26766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Hibern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his is deep sleep in which animal’s body temp droops, body activities are slowed to conserve energ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.g. Bats, woodchucks &amp; bea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6" descr="bear"/>
          <p:cNvPicPr/>
          <p:nvPr/>
        </p:nvPicPr>
        <p:blipFill>
          <a:blip r:embed="rId1"/>
          <a:stretch/>
        </p:blipFill>
        <p:spPr>
          <a:xfrm>
            <a:off x="5724360" y="3716280"/>
            <a:ext cx="3129120" cy="2357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HIBERNATION_PICTURE"/>
          <p:cNvPicPr/>
          <p:nvPr/>
        </p:nvPicPr>
        <p:blipFill>
          <a:blip r:embed="rId2"/>
          <a:stretch/>
        </p:blipFill>
        <p:spPr>
          <a:xfrm>
            <a:off x="2843280" y="3716280"/>
            <a:ext cx="2752560" cy="2400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no-mamm-fathomseminar-bats-session4-mouseearedpic_6781_1"/>
          <p:cNvPicPr/>
          <p:nvPr/>
        </p:nvPicPr>
        <p:blipFill>
          <a:blip r:embed="rId3"/>
          <a:stretch/>
        </p:blipFill>
        <p:spPr>
          <a:xfrm>
            <a:off x="179280" y="3719520"/>
            <a:ext cx="2448000" cy="2374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3:37:10Z</dcterms:created>
  <dc:creator>Burntwood School</dc:creator>
  <dc:description/>
  <dc:language>en-US</dc:language>
  <cp:lastModifiedBy>LEGION2</cp:lastModifiedBy>
  <dcterms:modified xsi:type="dcterms:W3CDTF">2016-01-12T07:30:10Z</dcterms:modified>
  <cp:revision>7</cp:revision>
  <dc:subject/>
  <dc:title>Animal Adaptations</dc:title>
</cp:coreProperties>
</file>